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124-8DC9-45C8-8FB5-A8B7CDEA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AB6-C215-4D23-8A5A-2B6DECD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DFFA1-396F-431F-AB02-D5AB1E0E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317A-4799-4327-B76F-7D5E2528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6E0E-78E8-4395-8C87-8909A8C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FFD91-E6D6-4FC6-9CDA-16ACEA1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EDDD-71A4-44A7-B24C-69C98F8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3C9A5-14EA-4E7C-95CB-B90EE33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A514-D763-493C-B9B6-0038C441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2444B-0109-4D7F-876B-14D1B1CA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77C56-3D79-4A2E-A2AB-4BD54D1E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5CFC5-D171-4DAA-8F39-1B356985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817-67E2-4C46-8DD0-287C187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734D5-DD54-49B4-97EE-669F145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76FC-76B9-4A59-98FD-780D276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2F81-59F3-4A66-8ED7-A05B3AD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DB870-D584-4522-898A-371DEC45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292A5-E8AC-418D-B99E-5F8F5CB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8E1D9-734F-405B-81B9-FE96E0D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C4D0D-E762-40C8-B195-F4B0D76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36EAB-4691-4E29-A30C-1C9BA53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DE3BA-61AA-4F05-8D40-8DC7420E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B822-C55C-432C-9F58-CD898A53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71F-BDBD-47D6-862D-EB30F51E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AB9F2-5515-4A4C-A786-A6E43F14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002A-E198-4BF0-BD73-714B9DD4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48CAB-F021-4E68-9D04-93209E6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17CD8-05D9-4914-ACB2-BA9AE19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B6D78-B60D-4321-AA79-BD85D1AF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88A5-3CAC-4321-9AE1-F1F4AAA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ECCDB-FE39-4555-9C98-D42C9DD2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433C-2920-496A-B218-A319672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EE2F-9E06-4026-85DC-30FBB49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08AE6-F318-4997-80EB-4A834A1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931B-EABE-45BD-AB8A-7C116581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CFD6E-AB85-444B-BFA5-236229F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0D6B2-C48D-477A-9200-5879DD72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80A0-8822-4F0F-A312-324274C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F1060-E3AC-4F17-8EF8-8520490E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31D50-0A24-4F4A-9FAA-C6A779A9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E804F-1D8B-4E27-BF2E-1B6193E4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EE2DE-B6EB-4F68-B251-398C0BD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198CE-282C-4048-B4F8-16F14E2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07324-A1F2-4486-B963-7FF07C9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784D4-0073-4F9B-AFF6-B4C30E6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4D4-9E61-43F7-867E-3366EF73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9E36D-8884-4190-ADD3-25910E3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CD2D0-5435-4FEA-BBD6-A94933A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C8570-7213-433C-BD1E-8763142D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821A8-A97E-4F6D-BBB5-C0458D2E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FB8F-D6C4-4C70-A2B2-33FF7072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F73-3867-45BB-88A0-BFB6D9AE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83A4-8D82-44E3-8120-8D1044E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E8F-C225-4D48-80E7-F4D77249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28C0-510D-442E-80BD-84D2D8F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200-0E29-4948-8AA1-3624B59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094-E09B-4798-A8BE-C8C35A1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45D0-17AC-47B9-A149-64AAE77C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D3E-117A-4EDB-BE92-443D5C5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AF41-CBE1-49CF-9EAB-45B6BFB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D65-A8D4-4961-8D44-0EF8F66F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EFE7-8815-461E-97A2-ABA27217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CA4D-F01B-47EE-B0C0-34F2B2D9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E92C-569A-412E-A138-62FCEAC1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FD53-19BA-4E17-80C3-FA65A00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DDE6-520C-4E95-9B4F-8AB33C4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8312-7C21-4AB1-9C63-76D9E2E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74-AAF6-4241-AE50-E90120E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976E-15F8-4C18-A5C8-3DB8424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A429-790E-463F-9030-1BD1D4C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A4CC-C2E5-423C-95E5-0AFC7ACC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7750-5237-4989-9A5F-102CFA7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5BC8-E90E-4A4A-B987-B41E8680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EBFD-6AF0-457A-966A-A4034104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5972-22F7-45B6-8E54-95F133B9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9665-20F9-4169-8FBE-64AE7268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F532-F1B5-40AA-80FB-3547690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2BB0-2291-42A5-B4B3-A1E53A5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9E6-48CF-4B54-8EC5-432D78FF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C6CC-3553-4A33-8E8B-BDB2158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7239-88CD-4BC5-BBBE-E608380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8259-848D-485A-9B3A-E97C438F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6DAE-1808-4030-950C-1A51C0D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A345-5C7E-4A21-8677-DBCDE6F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4F5D-6130-443B-AE25-77888074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5AC3-C55C-440F-A2EB-D444D69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DCB1-4003-477E-BE56-08754A5B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D443-358A-427F-A864-96813A7F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B3A4-39B1-4C09-80A0-98A29384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E60-1618-41EC-A618-1218964D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3904-7BE7-4146-9AB3-FD9E99BB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95D5-2F86-489A-A4ED-7D72046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3CF8-26A3-4881-BFCC-3263D598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873D-404D-4693-ACE2-44A1110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726F3-51F9-4A31-898D-2D862F7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AFD4-ADF5-4419-A0F0-BA03337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9D3A-DCC9-4E14-A8FA-73E7193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1B814-7BE7-417A-AFA7-21A0560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8CEF-CDFE-4D11-861F-9952730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577B-60E4-400D-BDFA-4AF2CC2E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0E2-972A-4998-9580-48FA5771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22B7-88F2-4670-A7DE-2EEF79F9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E25D-EC9D-4ACD-96FC-2544D5BC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C8E0-2F6F-40FC-9C7C-AE82095A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3716-9D9C-450A-A221-C9BEC40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69E3-1FE0-4E87-B4AA-CABDB5E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9661-6094-441B-B9A9-A0B7C6B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199E-BDE6-45FB-AC79-030C409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1491-DB02-4867-9507-A75EAAB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5E84-203E-4C6B-8A73-0F77BE2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1C37-7F76-48F7-AE15-6B08802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913-4428-471F-965A-00748B0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A147-2553-40DD-8888-A68A0BD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0627-8A13-4113-93DB-5BA3A47F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9F3C-E070-4D5B-93A3-0356CF18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505A-96A2-4632-A800-31B1CF42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5940-9F64-4EF5-9562-C6DEB37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739E-C945-4A67-AE91-33C2AA8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DFFC-F9E5-4BCE-9740-F15737A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9440-0CA4-4340-848D-B02F2DF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9B6A-0452-4F28-A288-F8B5EC82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2D52-742F-4B55-88DF-F72F665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F72-6F13-4687-8826-7C322C0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FAC0-F7B5-4DE8-81F1-ACFA56D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BC3A-B607-478A-8C3E-02D2D80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440C-9CD2-4470-A4D1-6B30A98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4F6E-E3AC-4AE0-A781-AAFE94E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395B2-846A-44D7-B4A7-BD912AAA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2194-5024-407A-A5BA-E6F81F3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DE01-9F54-4259-B38B-3EA4E08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EC4B-9BCB-487B-A338-9D8584A1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ECE99-9A07-4813-8FE3-C8AC3D1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6324-D28C-41AF-9F2E-14B6994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B05-DA24-4DA6-A420-A1E21D8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C457B-EF67-40AA-8228-2F130B4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C1D8-27EF-4F34-825C-04CCCFB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7CBE-22C3-41C5-A890-9276C71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6AE5-5D53-4862-BD48-0BC455A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BA6A-B5F2-4C7B-AF21-D861A3AC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196E-8BA4-4B49-B430-470AD7DE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296E-1D85-4A60-B81F-239C18A8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DBF0A-BE88-42FB-93CA-492C0DF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31AC6-4BA1-4D57-BA4B-1C613EB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81A3-5C3C-4EB5-B65E-D35337D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812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813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813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813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813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813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813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A5AD-1655-410C-BCFA-F45E37CC38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B41F-5071-44DE-B7E5-0D90F1F075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8FC-ACDC-45AF-B768-952713EB633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2A54-3C9F-41EA-96C6-913574E4826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915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915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915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915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915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915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915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3C29-8FD2-4005-AE63-FD1DE370F4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090-E829-4400-AF04-78743382AE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8388-A65C-4596-B148-B180CA0306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BA4-0A17-483F-AB54-759FC9D28C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F97-84A1-44AE-BB17-BF342D8EA4B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37EB-7FB4-4776-95C6-C0CC5B8B91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E82A-D7B3-4455-B25A-D3F746E36C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A83-2440-4978-8C99-B95B6FA774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4098"/>
          <p:cNvSpPr/>
          <p:nvPr/>
        </p:nvSpPr>
        <p:spPr>
          <a:xfrm>
            <a:off x="-361800" y="-558720"/>
            <a:ext cx="911160" cy="91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矩形 4102"/>
          <p:cNvSpPr txBox="1"/>
          <p:nvPr/>
        </p:nvSpPr>
        <p:spPr>
          <a:xfrm>
            <a:off x="1979640" y="1700280"/>
            <a:ext cx="5219640" cy="22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uFillTx/>
                <a:latin typeface="楷体_GB2312"/>
              </a:rPr>
              <a:t>青蛙写诗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3313" descr="006011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矩形 13314"/>
          <p:cNvSpPr/>
          <p:nvPr/>
        </p:nvSpPr>
        <p:spPr>
          <a:xfrm>
            <a:off x="3409200" y="13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二）初读全文，理顺文络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矩形 13315"/>
          <p:cNvSpPr/>
          <p:nvPr/>
        </p:nvSpPr>
        <p:spPr>
          <a:xfrm>
            <a:off x="3556440" y="6879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学生边看动画录象边听师范读课文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矩形 13316"/>
          <p:cNvSpPr/>
          <p:nvPr/>
        </p:nvSpPr>
        <p:spPr>
          <a:xfrm>
            <a:off x="1516320" y="11930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学生读课文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矩形 13318"/>
          <p:cNvSpPr/>
          <p:nvPr/>
        </p:nvSpPr>
        <p:spPr>
          <a:xfrm>
            <a:off x="3584520" y="39283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提问：都有谁来帮忙青蛙要作诗了？</a:t>
            </a:r>
            <a:r>
              <a:rPr b="0" i="1" lang="zh-CN" sz="18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图片 13319" descr=""/>
          <p:cNvPicPr/>
          <p:nvPr/>
        </p:nvPicPr>
        <p:blipFill>
          <a:blip r:embed="rId2"/>
          <a:stretch/>
        </p:blipFill>
        <p:spPr>
          <a:xfrm>
            <a:off x="6154560" y="4559400"/>
            <a:ext cx="2881440" cy="214632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13320" descr=""/>
          <p:cNvPicPr/>
          <p:nvPr/>
        </p:nvPicPr>
        <p:blipFill>
          <a:blip r:embed="rId3"/>
          <a:stretch/>
        </p:blipFill>
        <p:spPr>
          <a:xfrm>
            <a:off x="3132000" y="4559400"/>
            <a:ext cx="2880000" cy="21556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321" descr="2010-06-22_10-39-33_5"/>
          <p:cNvPicPr/>
          <p:nvPr/>
        </p:nvPicPr>
        <p:blipFill>
          <a:blip r:embed="rId4"/>
          <a:stretch/>
        </p:blipFill>
        <p:spPr>
          <a:xfrm>
            <a:off x="108000" y="4559400"/>
            <a:ext cx="2909880" cy="2182680"/>
          </a:xfrm>
          <a:prstGeom prst="rect">
            <a:avLst/>
          </a:prstGeom>
          <a:ln w="0">
            <a:noFill/>
          </a:ln>
        </p:spPr>
      </p:pic>
      <p:sp>
        <p:nvSpPr>
          <p:cNvPr id="592" name="矩形 13322"/>
          <p:cNvSpPr/>
          <p:nvPr/>
        </p:nvSpPr>
        <p:spPr>
          <a:xfrm>
            <a:off x="1763640" y="6093000"/>
            <a:ext cx="1224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蝌 蚪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矩形 13323"/>
          <p:cNvSpPr/>
          <p:nvPr/>
        </p:nvSpPr>
        <p:spPr>
          <a:xfrm>
            <a:off x="4500720" y="6089760"/>
            <a:ext cx="14396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水泡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矩形 13324"/>
          <p:cNvSpPr/>
          <p:nvPr/>
        </p:nvSpPr>
        <p:spPr>
          <a:xfrm>
            <a:off x="7812000" y="6093000"/>
            <a:ext cx="1152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水 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13325"/>
          <p:cNvSpPr/>
          <p:nvPr/>
        </p:nvSpPr>
        <p:spPr>
          <a:xfrm>
            <a:off x="250920" y="1722600"/>
            <a:ext cx="8529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阅读小提示：                                 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1)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读课文时要读准音，看准字，遇到不认识的字借助拼音多读几遍。               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2)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圈画出课文生字，再多读几遍。          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(3)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边读边用笔标出自然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14337" descr="8"/>
          <p:cNvPicPr/>
          <p:nvPr/>
        </p:nvPicPr>
        <p:blipFill>
          <a:blip r:embed="rId1"/>
          <a:stretch/>
        </p:blipFill>
        <p:spPr>
          <a:xfrm>
            <a:off x="0" y="-33984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597" name="矩形 14338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矩形 14339"/>
          <p:cNvSpPr/>
          <p:nvPr/>
        </p:nvSpPr>
        <p:spPr>
          <a:xfrm>
            <a:off x="2348280" y="1773360"/>
            <a:ext cx="31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下雨了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雨点儿淅啦啦，淅啦啦！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要作诗啦！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5361" descr="8"/>
          <p:cNvPicPr/>
          <p:nvPr/>
        </p:nvPicPr>
        <p:blipFill>
          <a:blip r:embed="rId1"/>
          <a:stretch/>
        </p:blipFill>
        <p:spPr>
          <a:xfrm>
            <a:off x="0" y="-2376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0" name="矩形 15363"/>
          <p:cNvSpPr/>
          <p:nvPr/>
        </p:nvSpPr>
        <p:spPr>
          <a:xfrm>
            <a:off x="1889640" y="2852640"/>
            <a:ext cx="32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小蝌蚪游过来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来给你当个小逗号！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矩形 15364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矩形 15365"/>
          <p:cNvSpPr/>
          <p:nvPr/>
        </p:nvSpPr>
        <p:spPr>
          <a:xfrm>
            <a:off x="1889640" y="2852640"/>
            <a:ext cx="32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小蝌蚪游过来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来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给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你当个小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逗号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！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6385" descr="8"/>
          <p:cNvPicPr/>
          <p:nvPr/>
        </p:nvPicPr>
        <p:blipFill>
          <a:blip r:embed="rId1"/>
          <a:stretch/>
        </p:blipFill>
        <p:spPr>
          <a:xfrm>
            <a:off x="0" y="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4" name="矩形 16387"/>
          <p:cNvSpPr/>
          <p:nvPr/>
        </p:nvSpPr>
        <p:spPr>
          <a:xfrm>
            <a:off x="2546280" y="25639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池塘里的水泡泡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能当个小句号。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矩形 16388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矩形 16390"/>
          <p:cNvSpPr/>
          <p:nvPr/>
        </p:nvSpPr>
        <p:spPr>
          <a:xfrm>
            <a:off x="2504520" y="2565360"/>
            <a:ext cx="27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池塘里的水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泡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泡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能当个小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号。”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7409" descr="8"/>
          <p:cNvPicPr/>
          <p:nvPr/>
        </p:nvPicPr>
        <p:blipFill>
          <a:blip r:embed="rId1"/>
          <a:stretch/>
        </p:blipFill>
        <p:spPr>
          <a:xfrm>
            <a:off x="0" y="-2376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08" name="矩形 17411"/>
          <p:cNvSpPr/>
          <p:nvPr/>
        </p:nvSpPr>
        <p:spPr>
          <a:xfrm>
            <a:off x="3569040" y="2779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荷叶上的一串水珠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们可以当省略号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矩形 17412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矩形 17413"/>
          <p:cNvSpPr/>
          <p:nvPr/>
        </p:nvSpPr>
        <p:spPr>
          <a:xfrm>
            <a:off x="2445840" y="2781000"/>
            <a:ext cx="29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荷叶上的一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串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水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珠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说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我们可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当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省略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号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1" name="图片 17414" descr=""/>
          <p:cNvPicPr/>
          <p:nvPr/>
        </p:nvPicPr>
        <p:blipFill>
          <a:blip r:embed="rId2"/>
          <a:stretch/>
        </p:blipFill>
        <p:spPr>
          <a:xfrm>
            <a:off x="1258920" y="4460760"/>
            <a:ext cx="336060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图片 18433" descr="8"/>
          <p:cNvPicPr/>
          <p:nvPr/>
        </p:nvPicPr>
        <p:blipFill>
          <a:blip r:embed="rId1"/>
          <a:stretch/>
        </p:blipFill>
        <p:spPr>
          <a:xfrm>
            <a:off x="0" y="-100080"/>
            <a:ext cx="9325080" cy="7197840"/>
          </a:xfrm>
          <a:prstGeom prst="rect">
            <a:avLst/>
          </a:prstGeom>
          <a:ln w="0">
            <a:noFill/>
          </a:ln>
        </p:spPr>
      </p:pic>
      <p:sp>
        <p:nvSpPr>
          <p:cNvPr id="613" name="矩形 18435"/>
          <p:cNvSpPr/>
          <p:nvPr/>
        </p:nvSpPr>
        <p:spPr>
          <a:xfrm>
            <a:off x="2622240" y="24912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的诗写成了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。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......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椭圆 18436"/>
          <p:cNvSpPr/>
          <p:nvPr/>
        </p:nvSpPr>
        <p:spPr>
          <a:xfrm>
            <a:off x="8029440" y="5950080"/>
            <a:ext cx="287640" cy="288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矩形 18437"/>
          <p:cNvSpPr/>
          <p:nvPr/>
        </p:nvSpPr>
        <p:spPr>
          <a:xfrm>
            <a:off x="1112400" y="691560"/>
            <a:ext cx="3591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三）再读课文，随文识字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矩形 18438"/>
          <p:cNvSpPr/>
          <p:nvPr/>
        </p:nvSpPr>
        <p:spPr>
          <a:xfrm>
            <a:off x="2609640" y="249300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青蛙的诗写成了：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。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，呱呱，</a:t>
            </a:r>
            <a:br>
              <a:rPr sz="3600"/>
            </a:b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呱呱呱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......”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9457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177840" y="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18" name="矩形 19458"/>
          <p:cNvSpPr/>
          <p:nvPr/>
        </p:nvSpPr>
        <p:spPr>
          <a:xfrm>
            <a:off x="1590480" y="333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延伸课堂，拓展创新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矩形 19462"/>
          <p:cNvSpPr/>
          <p:nvPr/>
        </p:nvSpPr>
        <p:spPr>
          <a:xfrm>
            <a:off x="611280" y="242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给     逗       号       泡     句        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矩形 19464"/>
          <p:cNvSpPr/>
          <p:nvPr/>
        </p:nvSpPr>
        <p:spPr>
          <a:xfrm>
            <a:off x="468360" y="1628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gěi    dòu    hào    pào    jǜ     chuà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矩形 19465"/>
          <p:cNvSpPr/>
          <p:nvPr/>
        </p:nvSpPr>
        <p:spPr>
          <a:xfrm>
            <a:off x="611280" y="321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Zhū    yǐ    shěng    lüè    gu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矩形 19466"/>
          <p:cNvSpPr/>
          <p:nvPr/>
        </p:nvSpPr>
        <p:spPr>
          <a:xfrm>
            <a:off x="752400" y="408312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珠     以        省        略      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5118" descr="2385423_155656031070_2"/>
          <p:cNvPicPr/>
          <p:nvPr/>
        </p:nvPicPr>
        <p:blipFill>
          <a:blip r:embed="rId1"/>
          <a:stretch/>
        </p:blipFill>
        <p:spPr>
          <a:xfrm>
            <a:off x="-36360" y="-27000"/>
            <a:ext cx="9185040" cy="7128000"/>
          </a:xfrm>
          <a:prstGeom prst="rect">
            <a:avLst/>
          </a:prstGeom>
          <a:ln w="0">
            <a:noFill/>
          </a:ln>
        </p:spPr>
      </p:pic>
      <p:sp>
        <p:nvSpPr>
          <p:cNvPr id="624" name="直接连接符 45119"/>
          <p:cNvSpPr/>
          <p:nvPr/>
        </p:nvSpPr>
        <p:spPr>
          <a:xfrm>
            <a:off x="324000" y="-27000"/>
            <a:ext cx="0" cy="158436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五角星 45121"/>
          <p:cNvSpPr/>
          <p:nvPr/>
        </p:nvSpPr>
        <p:spPr>
          <a:xfrm>
            <a:off x="-325440" y="1484280"/>
            <a:ext cx="1368360" cy="1297080"/>
          </a:xfrm>
          <a:prstGeom prst="pie">
            <a:avLst/>
          </a:prstGeom>
          <a:solidFill>
            <a:srgbClr val="ff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给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五角星 45122"/>
          <p:cNvSpPr/>
          <p:nvPr/>
        </p:nvSpPr>
        <p:spPr>
          <a:xfrm>
            <a:off x="971640" y="979560"/>
            <a:ext cx="1368360" cy="1297080"/>
          </a:xfrm>
          <a:prstGeom prst="pie">
            <a:avLst/>
          </a:prstGeom>
          <a:gradFill rotWithShape="0">
            <a:gsLst>
              <a:gs pos="0">
                <a:srgbClr val="ffff00">
                  <a:alpha val="84313"/>
                </a:srgbClr>
              </a:gs>
              <a:gs pos="100000">
                <a:srgbClr val="0066ff">
                  <a:alpha val="83137"/>
                </a:srgbClr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直接连接符 45123"/>
          <p:cNvSpPr/>
          <p:nvPr/>
        </p:nvSpPr>
        <p:spPr>
          <a:xfrm>
            <a:off x="1619280" y="0"/>
            <a:ext cx="0" cy="10526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五角星 45124"/>
          <p:cNvSpPr/>
          <p:nvPr/>
        </p:nvSpPr>
        <p:spPr>
          <a:xfrm>
            <a:off x="1619280" y="2276640"/>
            <a:ext cx="1368360" cy="1296720"/>
          </a:xfrm>
          <a:prstGeom prst="pie">
            <a:avLst/>
          </a:prstGeom>
          <a:solidFill>
            <a:srgbClr val="f8f8a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直接连接符 45125"/>
          <p:cNvSpPr/>
          <p:nvPr/>
        </p:nvSpPr>
        <p:spPr>
          <a:xfrm>
            <a:off x="2268360" y="-27000"/>
            <a:ext cx="0" cy="237636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五角星 45126"/>
          <p:cNvSpPr/>
          <p:nvPr/>
        </p:nvSpPr>
        <p:spPr>
          <a:xfrm>
            <a:off x="2700360" y="3139920"/>
            <a:ext cx="1368360" cy="1297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五角星 45131"/>
          <p:cNvSpPr/>
          <p:nvPr/>
        </p:nvSpPr>
        <p:spPr>
          <a:xfrm>
            <a:off x="2916360" y="404640"/>
            <a:ext cx="1368360" cy="1297080"/>
          </a:xfrm>
          <a:prstGeom prst="pie">
            <a:avLst/>
          </a:prstGeom>
          <a:solidFill>
            <a:srgbClr val="a8f6b5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直接连接符 45127"/>
          <p:cNvSpPr/>
          <p:nvPr/>
        </p:nvSpPr>
        <p:spPr>
          <a:xfrm>
            <a:off x="3421080" y="44280"/>
            <a:ext cx="0" cy="30974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五角星 45128"/>
          <p:cNvSpPr/>
          <p:nvPr/>
        </p:nvSpPr>
        <p:spPr>
          <a:xfrm>
            <a:off x="3924360" y="1628640"/>
            <a:ext cx="1368360" cy="1297080"/>
          </a:xfrm>
          <a:prstGeom prst="pie">
            <a:avLst/>
          </a:pr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串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五角星 45129"/>
          <p:cNvSpPr/>
          <p:nvPr/>
        </p:nvSpPr>
        <p:spPr>
          <a:xfrm>
            <a:off x="6156360" y="2205000"/>
            <a:ext cx="1368360" cy="1297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珠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五角星 45130"/>
          <p:cNvSpPr/>
          <p:nvPr/>
        </p:nvSpPr>
        <p:spPr>
          <a:xfrm>
            <a:off x="5148360" y="765000"/>
            <a:ext cx="1368360" cy="1297080"/>
          </a:xfrm>
          <a:prstGeom prst="pie">
            <a:avLst/>
          </a:prstGeom>
          <a:solidFill>
            <a:srgbClr val="cc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五角星 45132"/>
          <p:cNvSpPr/>
          <p:nvPr/>
        </p:nvSpPr>
        <p:spPr>
          <a:xfrm>
            <a:off x="7956720" y="1557360"/>
            <a:ext cx="1368360" cy="1297080"/>
          </a:xfrm>
          <a:prstGeom prst="pie">
            <a:avLst/>
          </a:prstGeom>
          <a:solidFill>
            <a:srgbClr val="f8f8a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呱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五角星 45133"/>
          <p:cNvSpPr/>
          <p:nvPr/>
        </p:nvSpPr>
        <p:spPr>
          <a:xfrm>
            <a:off x="179280" y="3284640"/>
            <a:ext cx="1368360" cy="1296720"/>
          </a:xfrm>
          <a:prstGeom prst="pie">
            <a:avLst/>
          </a:prstGeom>
          <a:solidFill>
            <a:srgbClr val="ff66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号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五角星 45134"/>
          <p:cNvSpPr/>
          <p:nvPr/>
        </p:nvSpPr>
        <p:spPr>
          <a:xfrm>
            <a:off x="7164360" y="3355920"/>
            <a:ext cx="1368360" cy="1297080"/>
          </a:xfrm>
          <a:prstGeom prst="pie">
            <a:avLst/>
          </a:prstGeom>
          <a:gradFill rotWithShape="0">
            <a:gsLst>
              <a:gs pos="0">
                <a:srgbClr val="f8f8a6"/>
              </a:gs>
              <a:gs pos="100000">
                <a:srgbClr val="f6a8c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直接连接符 45135"/>
          <p:cNvSpPr/>
          <p:nvPr/>
        </p:nvSpPr>
        <p:spPr>
          <a:xfrm flipH="1">
            <a:off x="7811640" y="0"/>
            <a:ext cx="73080" cy="335772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直接连接符 45136"/>
          <p:cNvSpPr/>
          <p:nvPr/>
        </p:nvSpPr>
        <p:spPr>
          <a:xfrm flipH="1">
            <a:off x="826560" y="0"/>
            <a:ext cx="73080" cy="328464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直接连接符 45137"/>
          <p:cNvSpPr/>
          <p:nvPr/>
        </p:nvSpPr>
        <p:spPr>
          <a:xfrm flipH="1">
            <a:off x="6804000" y="0"/>
            <a:ext cx="1440" cy="2205000"/>
          </a:xfrm>
          <a:prstGeom prst="line">
            <a:avLst/>
          </a:prstGeom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0444E-006 L -0.00382 0.41975 E">
                                      <p:cBhvr>
                                        <p:cTn id="287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86309E-007 L 0.004 0.25185 E">
                                      <p:cBhvr>
                                        <p:cTn id="290" dur="5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71323E-007 L 0.00399 0.59829 E">
                                      <p:cBhvr>
                                        <p:cTn id="293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958E-006 L 0.00399 0.3254 E">
                                      <p:cBhvr>
                                        <p:cTn id="296" dur="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99" dur="5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765E-006 L -0.00017 0.60869 E">
                                      <p:cBhvr>
                                        <p:cTn id="302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05" dur="5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0629E-006 L -0.004 0.62951 E">
                                      <p:cBhvr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8094E-006 L 0.00399 0.3462 E">
                                      <p:cBhvr>
                                        <p:cTn id="311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14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42276E-007 L -0.004 0.48242 E">
                                      <p:cBhvr>
                                        <p:cTn id="317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20481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43" name="矩形 20482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4" name="组合 20483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45" name="图片 20484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矩形 20485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47" name="图片 20486" descr="%]G_$]CHDG}HOQRVL03[(YY"/>
          <p:cNvPicPr/>
          <p:nvPr/>
        </p:nvPicPr>
        <p:blipFill>
          <a:blip r:embed="rId3"/>
          <a:stretch/>
        </p:blipFill>
        <p:spPr>
          <a:xfrm>
            <a:off x="2916360" y="1989000"/>
            <a:ext cx="40766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图片 21505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68400"/>
            <a:ext cx="9321840" cy="7026480"/>
          </a:xfrm>
          <a:prstGeom prst="rect">
            <a:avLst/>
          </a:prstGeom>
          <a:ln w="0">
            <a:noFill/>
          </a:ln>
        </p:spPr>
      </p:pic>
      <p:sp>
        <p:nvSpPr>
          <p:cNvPr id="649" name="矩形 21506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50" name="组合 21507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51" name="图片 21508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矩形 21509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53" name="图片 21510" descr="W(LJPJ2KG}0[@S}GX1`3FNB"/>
          <p:cNvPicPr/>
          <p:nvPr/>
        </p:nvPicPr>
        <p:blipFill>
          <a:blip r:embed="rId3"/>
          <a:stretch/>
        </p:blipFill>
        <p:spPr>
          <a:xfrm>
            <a:off x="2987640" y="2060640"/>
            <a:ext cx="39243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5121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grpSp>
        <p:nvGrpSpPr>
          <p:cNvPr id="509" name="组合 5122"/>
          <p:cNvGrpSpPr/>
          <p:nvPr/>
        </p:nvGrpSpPr>
        <p:grpSpPr>
          <a:xfrm>
            <a:off x="3162240" y="2679840"/>
            <a:ext cx="2057040" cy="1828440"/>
            <a:chOff x="3162240" y="2679840"/>
            <a:chExt cx="2057040" cy="1828440"/>
          </a:xfrm>
        </p:grpSpPr>
        <p:sp>
          <p:nvSpPr>
            <p:cNvPr id="510" name="椭圆 5123"/>
            <p:cNvSpPr/>
            <p:nvPr/>
          </p:nvSpPr>
          <p:spPr>
            <a:xfrm>
              <a:off x="3162240" y="2679840"/>
              <a:ext cx="2057040" cy="182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文本框 5124"/>
            <p:cNvSpPr/>
            <p:nvPr/>
          </p:nvSpPr>
          <p:spPr>
            <a:xfrm>
              <a:off x="3485520" y="2953440"/>
              <a:ext cx="161712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教学目标</a:t>
              </a:r>
              <a:r>
                <a:rPr b="0" i="1" lang="zh-CN" sz="2800" spc="-1" strike="noStrike" u="sng">
                  <a:solidFill>
                    <a:srgbClr val="3333ff"/>
                  </a:solidFill>
                  <a:uFillTx/>
                  <a:latin typeface="Arial"/>
                  <a:ea typeface="楷体_GB2312"/>
                </a:rPr>
                <a:t>重点难点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2" name="组合 5125"/>
          <p:cNvGrpSpPr/>
          <p:nvPr/>
        </p:nvGrpSpPr>
        <p:grpSpPr>
          <a:xfrm>
            <a:off x="938160" y="1916280"/>
            <a:ext cx="1904760" cy="1675800"/>
            <a:chOff x="938160" y="1916280"/>
            <a:chExt cx="1904760" cy="1675800"/>
          </a:xfrm>
        </p:grpSpPr>
        <p:sp>
          <p:nvSpPr>
            <p:cNvPr id="513" name="椭圆 5126"/>
            <p:cNvSpPr/>
            <p:nvPr/>
          </p:nvSpPr>
          <p:spPr>
            <a:xfrm>
              <a:off x="938160" y="1916280"/>
              <a:ext cx="1904760" cy="1675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文本框 5127"/>
            <p:cNvSpPr/>
            <p:nvPr/>
          </p:nvSpPr>
          <p:spPr>
            <a:xfrm>
              <a:off x="1237320" y="2083320"/>
              <a:ext cx="1449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教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分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5" name="文本框 5128"/>
          <p:cNvSpPr/>
          <p:nvPr/>
        </p:nvSpPr>
        <p:spPr>
          <a:xfrm>
            <a:off x="684360" y="8049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说课内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6" name="组合 5129"/>
          <p:cNvGrpSpPr/>
          <p:nvPr/>
        </p:nvGrpSpPr>
        <p:grpSpPr>
          <a:xfrm>
            <a:off x="5940360" y="3789360"/>
            <a:ext cx="1871280" cy="1802880"/>
            <a:chOff x="5940360" y="3789360"/>
            <a:chExt cx="1871280" cy="1802880"/>
          </a:xfrm>
        </p:grpSpPr>
        <p:sp>
          <p:nvSpPr>
            <p:cNvPr id="517" name="椭圆 5130"/>
            <p:cNvSpPr/>
            <p:nvPr/>
          </p:nvSpPr>
          <p:spPr>
            <a:xfrm>
              <a:off x="5940360" y="3789360"/>
              <a:ext cx="1871280" cy="1802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8" name="文本框 5131"/>
            <p:cNvSpPr/>
            <p:nvPr/>
          </p:nvSpPr>
          <p:spPr>
            <a:xfrm>
              <a:off x="6234480" y="4059000"/>
              <a:ext cx="1354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教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流程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2529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55" name="矩形 22530"/>
          <p:cNvSpPr/>
          <p:nvPr/>
        </p:nvSpPr>
        <p:spPr>
          <a:xfrm>
            <a:off x="1499040" y="33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（四）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写字指导，贵在精细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56" name="组合 22531"/>
          <p:cNvGrpSpPr/>
          <p:nvPr/>
        </p:nvGrpSpPr>
        <p:grpSpPr>
          <a:xfrm>
            <a:off x="468360" y="1173240"/>
            <a:ext cx="2519280" cy="887400"/>
            <a:chOff x="468360" y="1173240"/>
            <a:chExt cx="2519280" cy="887400"/>
          </a:xfrm>
        </p:grpSpPr>
        <p:pic>
          <p:nvPicPr>
            <p:cNvPr id="657" name="图片 22532" descr="图片方框"/>
            <p:cNvPicPr/>
            <p:nvPr/>
          </p:nvPicPr>
          <p:blipFill>
            <a:blip r:embed="rId2"/>
            <a:stretch/>
          </p:blipFill>
          <p:spPr>
            <a:xfrm>
              <a:off x="468360" y="1173240"/>
              <a:ext cx="25192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矩形 22533"/>
            <p:cNvSpPr txBox="1"/>
            <p:nvPr/>
          </p:nvSpPr>
          <p:spPr>
            <a:xfrm>
              <a:off x="755640" y="1317600"/>
              <a:ext cx="172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 u="sng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uFillTx/>
                  <a:latin typeface="楷体_GB2312"/>
                </a:rPr>
                <a:t>我会写</a:t>
              </a:r>
              <a:endParaRPr b="1" i="1" lang="en-US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楷体_GB2312"/>
                <a:ea typeface="楷体_GB2312"/>
              </a:endParaRPr>
            </a:p>
          </p:txBody>
        </p:sp>
      </p:grpSp>
      <p:pic>
        <p:nvPicPr>
          <p:cNvPr id="659" name="图片 22534" descr="0DAG4DYLQTBN]UOE)0@RHNL"/>
          <p:cNvPicPr/>
          <p:nvPr/>
        </p:nvPicPr>
        <p:blipFill>
          <a:blip r:embed="rId3"/>
          <a:stretch/>
        </p:blipFill>
        <p:spPr>
          <a:xfrm>
            <a:off x="2933640" y="2106720"/>
            <a:ext cx="3943440" cy="3914640"/>
          </a:xfrm>
          <a:prstGeom prst="rect">
            <a:avLst/>
          </a:prstGeom>
          <a:ln w="0">
            <a:noFill/>
          </a:ln>
        </p:spPr>
      </p:pic>
      <p:sp>
        <p:nvSpPr>
          <p:cNvPr id="660" name="椭圆 22536"/>
          <p:cNvSpPr/>
          <p:nvPr/>
        </p:nvSpPr>
        <p:spPr>
          <a:xfrm>
            <a:off x="8317080" y="6353280"/>
            <a:ext cx="610920" cy="50472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图片 23553" descr="20090420_094a1aa2fd48fd9490734C7Cz4qrQRQu"/>
          <p:cNvPicPr/>
          <p:nvPr/>
        </p:nvPicPr>
        <p:blipFill>
          <a:blip r:embed="rId1"/>
          <a:srcRect l="5630" t="6132" r="7172" b="5376"/>
          <a:stretch/>
        </p:blipFill>
        <p:spPr>
          <a:xfrm>
            <a:off x="-33480" y="-23760"/>
            <a:ext cx="9321840" cy="7026120"/>
          </a:xfrm>
          <a:prstGeom prst="rect">
            <a:avLst/>
          </a:prstGeom>
          <a:ln w="0">
            <a:noFill/>
          </a:ln>
        </p:spPr>
      </p:pic>
      <p:sp>
        <p:nvSpPr>
          <p:cNvPr id="662" name="矩形 23554"/>
          <p:cNvSpPr/>
          <p:nvPr/>
        </p:nvSpPr>
        <p:spPr>
          <a:xfrm>
            <a:off x="1838880" y="18439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让学生回读课文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矩形 23556"/>
          <p:cNvSpPr/>
          <p:nvPr/>
        </p:nvSpPr>
        <p:spPr>
          <a:xfrm>
            <a:off x="2266200" y="3330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六、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回文识字，课堂小结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椭圆 23557"/>
          <p:cNvSpPr/>
          <p:nvPr/>
        </p:nvSpPr>
        <p:spPr>
          <a:xfrm>
            <a:off x="8317080" y="6353280"/>
            <a:ext cx="610920" cy="50472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614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grpSp>
        <p:nvGrpSpPr>
          <p:cNvPr id="520" name="组合 6146"/>
          <p:cNvGrpSpPr/>
          <p:nvPr/>
        </p:nvGrpSpPr>
        <p:grpSpPr>
          <a:xfrm>
            <a:off x="3162240" y="2679840"/>
            <a:ext cx="2057040" cy="1828440"/>
            <a:chOff x="3162240" y="2679840"/>
            <a:chExt cx="2057040" cy="1828440"/>
          </a:xfrm>
        </p:grpSpPr>
        <p:sp>
          <p:nvSpPr>
            <p:cNvPr id="521" name="椭圆 6147"/>
            <p:cNvSpPr/>
            <p:nvPr/>
          </p:nvSpPr>
          <p:spPr>
            <a:xfrm>
              <a:off x="3162240" y="2679840"/>
              <a:ext cx="2057040" cy="182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文本框 6148"/>
            <p:cNvSpPr/>
            <p:nvPr/>
          </p:nvSpPr>
          <p:spPr>
            <a:xfrm>
              <a:off x="3485520" y="2953440"/>
              <a:ext cx="161712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教学目标</a:t>
              </a:r>
              <a:r>
                <a:rPr b="0" i="1" lang="zh-CN" sz="2800" spc="-1" strike="noStrike" u="sng">
                  <a:solidFill>
                    <a:srgbClr val="3333ff"/>
                  </a:solidFill>
                  <a:uFillTx/>
                  <a:latin typeface="Arial"/>
                  <a:ea typeface="楷体_GB2312"/>
                </a:rPr>
                <a:t>重点难点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3" name="组合 6149"/>
          <p:cNvGrpSpPr/>
          <p:nvPr/>
        </p:nvGrpSpPr>
        <p:grpSpPr>
          <a:xfrm>
            <a:off x="938160" y="1916280"/>
            <a:ext cx="1904760" cy="1675800"/>
            <a:chOff x="938160" y="1916280"/>
            <a:chExt cx="1904760" cy="1675800"/>
          </a:xfrm>
        </p:grpSpPr>
        <p:sp>
          <p:nvSpPr>
            <p:cNvPr id="524" name="椭圆 6150"/>
            <p:cNvSpPr/>
            <p:nvPr/>
          </p:nvSpPr>
          <p:spPr>
            <a:xfrm>
              <a:off x="938160" y="1916280"/>
              <a:ext cx="1904760" cy="1675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文本框 6151"/>
            <p:cNvSpPr/>
            <p:nvPr/>
          </p:nvSpPr>
          <p:spPr>
            <a:xfrm>
              <a:off x="1237320" y="2083320"/>
              <a:ext cx="1449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教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663300"/>
                  </a:solidFill>
                  <a:uFillTx/>
                  <a:latin typeface="Times New Roman"/>
                  <a:ea typeface="楷体_GB2312"/>
                </a:rPr>
                <a:t>分析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6" name="文本框 6152"/>
          <p:cNvSpPr/>
          <p:nvPr/>
        </p:nvSpPr>
        <p:spPr>
          <a:xfrm>
            <a:off x="684360" y="8049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内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7" name="组合 6153"/>
          <p:cNvGrpSpPr/>
          <p:nvPr/>
        </p:nvGrpSpPr>
        <p:grpSpPr>
          <a:xfrm>
            <a:off x="5940360" y="3789360"/>
            <a:ext cx="1871280" cy="1802880"/>
            <a:chOff x="5940360" y="3789360"/>
            <a:chExt cx="1871280" cy="1802880"/>
          </a:xfrm>
        </p:grpSpPr>
        <p:sp>
          <p:nvSpPr>
            <p:cNvPr id="528" name="椭圆 6154"/>
            <p:cNvSpPr/>
            <p:nvPr/>
          </p:nvSpPr>
          <p:spPr>
            <a:xfrm>
              <a:off x="5940360" y="3789360"/>
              <a:ext cx="1871280" cy="1802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文本框 6155"/>
            <p:cNvSpPr/>
            <p:nvPr/>
          </p:nvSpPr>
          <p:spPr>
            <a:xfrm>
              <a:off x="6234480" y="4059000"/>
              <a:ext cx="1354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教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zh-CN" sz="2800" spc="-1" strike="noStrike" u="sng">
                  <a:solidFill>
                    <a:srgbClr val="ff33cc"/>
                  </a:solidFill>
                  <a:uFillTx/>
                  <a:latin typeface="楷体_GB2312"/>
                  <a:ea typeface="楷体_GB2312"/>
                </a:rPr>
                <a:t>流程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7169" descr="PM_001"/>
          <p:cNvPicPr/>
          <p:nvPr/>
        </p:nvPicPr>
        <p:blipFill>
          <a:blip r:embed="rId1"/>
          <a:stretch/>
        </p:blipFill>
        <p:spPr>
          <a:xfrm>
            <a:off x="-177840" y="0"/>
            <a:ext cx="10078920" cy="7101000"/>
          </a:xfrm>
          <a:prstGeom prst="rect">
            <a:avLst/>
          </a:prstGeom>
          <a:ln w="0">
            <a:noFill/>
          </a:ln>
        </p:spPr>
      </p:pic>
      <p:sp>
        <p:nvSpPr>
          <p:cNvPr id="531" name="矩形 7170"/>
          <p:cNvSpPr/>
          <p:nvPr/>
        </p:nvSpPr>
        <p:spPr>
          <a:xfrm>
            <a:off x="395280" y="1010520"/>
            <a:ext cx="91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　　这是一首轻快、活泼的儿童诗，共有五小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节。作者生动地描绘了青蛙在下雨        天“呱呱”地如作诗一样鸣叫的情景，形象地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将小蝌蚪、水泡泡和一串水珠比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了诗歌中的逗号、句号、省略号，读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让人浮想联翩。教材内容图文并茂，富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童趣，富于想象，富于创造，十分适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天性活泼、充满好奇的一年级学生学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语言、认识事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矩形 7171"/>
          <p:cNvSpPr txBox="1"/>
          <p:nvPr/>
        </p:nvSpPr>
        <p:spPr>
          <a:xfrm>
            <a:off x="395280" y="620640"/>
            <a:ext cx="386244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uFillTx/>
                <a:latin typeface="宋体"/>
              </a:rPr>
              <a:t>一、说教材：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3" name="椭圆 7172"/>
          <p:cNvSpPr/>
          <p:nvPr/>
        </p:nvSpPr>
        <p:spPr>
          <a:xfrm>
            <a:off x="8244000" y="5950080"/>
            <a:ext cx="36036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8193" descr=""/>
          <p:cNvPicPr/>
          <p:nvPr/>
        </p:nvPicPr>
        <p:blipFill>
          <a:blip r:embed="rId1"/>
          <a:stretch/>
        </p:blipFill>
        <p:spPr>
          <a:xfrm>
            <a:off x="-177840" y="-23760"/>
            <a:ext cx="9321840" cy="7527960"/>
          </a:xfrm>
          <a:prstGeom prst="rect">
            <a:avLst/>
          </a:prstGeom>
          <a:ln w="0">
            <a:noFill/>
          </a:ln>
        </p:spPr>
      </p:pic>
      <p:sp>
        <p:nvSpPr>
          <p:cNvPr id="535" name="矩形 8194"/>
          <p:cNvSpPr/>
          <p:nvPr/>
        </p:nvSpPr>
        <p:spPr>
          <a:xfrm>
            <a:off x="2417040" y="1429560"/>
            <a:ext cx="5095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目标：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　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认识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14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个生字，会写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个生字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认识一个偏旁，了解“串”字的演变过程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能正确流利地朗读课文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认识“逗号、句号、省略号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、感受儿童诗的生动形象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矩形 8195"/>
          <p:cNvSpPr txBox="1"/>
          <p:nvPr/>
        </p:nvSpPr>
        <p:spPr>
          <a:xfrm>
            <a:off x="1025640" y="384120"/>
            <a:ext cx="556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uFillTx/>
                <a:latin typeface="宋体"/>
              </a:rPr>
              <a:t>二、说教学目标、重难点：</a:t>
            </a:r>
            <a:endParaRPr b="1" i="1" lang="en-US" sz="24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9217" descr=""/>
          <p:cNvPicPr/>
          <p:nvPr/>
        </p:nvPicPr>
        <p:blipFill>
          <a:blip r:embed="rId1"/>
          <a:stretch/>
        </p:blipFill>
        <p:spPr>
          <a:xfrm>
            <a:off x="-177840" y="-23760"/>
            <a:ext cx="9321840" cy="7527960"/>
          </a:xfrm>
          <a:prstGeom prst="rect">
            <a:avLst/>
          </a:prstGeom>
          <a:ln w="0">
            <a:noFill/>
          </a:ln>
        </p:spPr>
      </p:pic>
      <p:sp>
        <p:nvSpPr>
          <p:cNvPr id="538" name="矩形 9218"/>
          <p:cNvSpPr/>
          <p:nvPr/>
        </p:nvSpPr>
        <p:spPr>
          <a:xfrm>
            <a:off x="1772280" y="492840"/>
            <a:ext cx="6179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重点：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                          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在具体的语言环境中运用多种方法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识字，正确书写生字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教学难点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认识逗号、句号、省略号，能正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流利地朗读课文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椭圆 9219"/>
          <p:cNvSpPr/>
          <p:nvPr/>
        </p:nvSpPr>
        <p:spPr>
          <a:xfrm>
            <a:off x="7308720" y="5950080"/>
            <a:ext cx="35892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0241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矩形 10242"/>
          <p:cNvSpPr/>
          <p:nvPr/>
        </p:nvSpPr>
        <p:spPr>
          <a:xfrm>
            <a:off x="2286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右箭头 10243"/>
          <p:cNvSpPr/>
          <p:nvPr/>
        </p:nvSpPr>
        <p:spPr>
          <a:xfrm>
            <a:off x="1066680" y="2895480"/>
            <a:ext cx="5335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右箭头 10244"/>
          <p:cNvSpPr/>
          <p:nvPr/>
        </p:nvSpPr>
        <p:spPr>
          <a:xfrm>
            <a:off x="2438280" y="2895480"/>
            <a:ext cx="60984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右箭头 10245"/>
          <p:cNvSpPr/>
          <p:nvPr/>
        </p:nvSpPr>
        <p:spPr>
          <a:xfrm>
            <a:off x="40384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10246"/>
          <p:cNvSpPr/>
          <p:nvPr/>
        </p:nvSpPr>
        <p:spPr>
          <a:xfrm>
            <a:off x="-17892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猜谜激趣，导入课题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矩形 10247"/>
          <p:cNvSpPr/>
          <p:nvPr/>
        </p:nvSpPr>
        <p:spPr>
          <a:xfrm>
            <a:off x="1676520" y="1447920"/>
            <a:ext cx="76176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矩形 10248"/>
          <p:cNvSpPr/>
          <p:nvPr/>
        </p:nvSpPr>
        <p:spPr>
          <a:xfrm>
            <a:off x="32004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矩形 10249"/>
          <p:cNvSpPr/>
          <p:nvPr/>
        </p:nvSpPr>
        <p:spPr>
          <a:xfrm>
            <a:off x="76960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文本框 10250"/>
          <p:cNvSpPr/>
          <p:nvPr/>
        </p:nvSpPr>
        <p:spPr>
          <a:xfrm>
            <a:off x="1192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初读全文，理顺文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文本框 10251"/>
          <p:cNvSpPr/>
          <p:nvPr/>
        </p:nvSpPr>
        <p:spPr>
          <a:xfrm>
            <a:off x="72126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回文识字，课堂小结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矩形 10252"/>
          <p:cNvSpPr txBox="1"/>
          <p:nvPr/>
        </p:nvSpPr>
        <p:spPr>
          <a:xfrm>
            <a:off x="1522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ff99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三、教学流程：</a:t>
            </a:r>
            <a:endParaRPr b="0" i="1" lang="en-US" sz="2400" spc="1" strike="noStrike" u="sng">
              <a:ln w="12600">
                <a:solidFill>
                  <a:srgbClr val="ff99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52" name="矩形 10253"/>
          <p:cNvSpPr/>
          <p:nvPr/>
        </p:nvSpPr>
        <p:spPr>
          <a:xfrm>
            <a:off x="47242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矩形 10254"/>
          <p:cNvSpPr/>
          <p:nvPr/>
        </p:nvSpPr>
        <p:spPr>
          <a:xfrm>
            <a:off x="6248520" y="1523880"/>
            <a:ext cx="76176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右箭头 10255"/>
          <p:cNvSpPr/>
          <p:nvPr/>
        </p:nvSpPr>
        <p:spPr>
          <a:xfrm>
            <a:off x="70102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右箭头 10256"/>
          <p:cNvSpPr/>
          <p:nvPr/>
        </p:nvSpPr>
        <p:spPr>
          <a:xfrm>
            <a:off x="5486400" y="2895480"/>
            <a:ext cx="6094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文本框 10257"/>
          <p:cNvSpPr/>
          <p:nvPr/>
        </p:nvSpPr>
        <p:spPr>
          <a:xfrm>
            <a:off x="271656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读课文，随文识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文本框 10258"/>
          <p:cNvSpPr/>
          <p:nvPr/>
        </p:nvSpPr>
        <p:spPr>
          <a:xfrm>
            <a:off x="5764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字指导，识写精细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10259"/>
          <p:cNvSpPr/>
          <p:nvPr/>
        </p:nvSpPr>
        <p:spPr>
          <a:xfrm>
            <a:off x="42408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检测反馈，延伸课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2"/>
                            </p:stCondLst>
                            <p:childTnLst>
                              <p:par>
                                <p:cTn id="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1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3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4"/>
                            </p:stCondLst>
                            <p:childTnLst>
                              <p:par>
                                <p:cTn id="1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4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5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6"/>
                            </p:stCondLst>
                            <p:childTnLst>
                              <p:par>
                                <p:cTn id="11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6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6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8"/>
                            </p:stCondLst>
                            <p:childTnLst>
                              <p:par>
                                <p:cTn id="12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8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9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1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126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矩形 11266"/>
          <p:cNvSpPr txBox="1"/>
          <p:nvPr/>
        </p:nvSpPr>
        <p:spPr>
          <a:xfrm>
            <a:off x="1522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ff99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三、教学流程：</a:t>
            </a:r>
            <a:endParaRPr b="0" i="1" lang="en-US" sz="2400" spc="1" strike="noStrike" u="sng">
              <a:ln w="12600">
                <a:solidFill>
                  <a:srgbClr val="ff99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61" name="矩形 11267"/>
          <p:cNvSpPr/>
          <p:nvPr/>
        </p:nvSpPr>
        <p:spPr>
          <a:xfrm>
            <a:off x="2286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右箭头 11268"/>
          <p:cNvSpPr/>
          <p:nvPr/>
        </p:nvSpPr>
        <p:spPr>
          <a:xfrm>
            <a:off x="1066680" y="2895480"/>
            <a:ext cx="5335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右箭头 11269"/>
          <p:cNvSpPr/>
          <p:nvPr/>
        </p:nvSpPr>
        <p:spPr>
          <a:xfrm>
            <a:off x="2438280" y="2895480"/>
            <a:ext cx="60984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右箭头 11270"/>
          <p:cNvSpPr/>
          <p:nvPr/>
        </p:nvSpPr>
        <p:spPr>
          <a:xfrm>
            <a:off x="40384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1271"/>
          <p:cNvSpPr/>
          <p:nvPr/>
        </p:nvSpPr>
        <p:spPr>
          <a:xfrm>
            <a:off x="-17892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猜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激趣，导入课题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矩形 11272"/>
          <p:cNvSpPr/>
          <p:nvPr/>
        </p:nvSpPr>
        <p:spPr>
          <a:xfrm>
            <a:off x="1676520" y="1447920"/>
            <a:ext cx="76176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矩形 11273"/>
          <p:cNvSpPr/>
          <p:nvPr/>
        </p:nvSpPr>
        <p:spPr>
          <a:xfrm>
            <a:off x="3200400" y="1447920"/>
            <a:ext cx="762120" cy="39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矩形 11274"/>
          <p:cNvSpPr/>
          <p:nvPr/>
        </p:nvSpPr>
        <p:spPr>
          <a:xfrm>
            <a:off x="76960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1275"/>
          <p:cNvSpPr/>
          <p:nvPr/>
        </p:nvSpPr>
        <p:spPr>
          <a:xfrm>
            <a:off x="1192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初读全文，理顺文络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11276"/>
          <p:cNvSpPr/>
          <p:nvPr/>
        </p:nvSpPr>
        <p:spPr>
          <a:xfrm>
            <a:off x="72126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回文识字，课堂小结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矩形 11277"/>
          <p:cNvSpPr/>
          <p:nvPr/>
        </p:nvSpPr>
        <p:spPr>
          <a:xfrm>
            <a:off x="4724280" y="1523880"/>
            <a:ext cx="76212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矩形 11278"/>
          <p:cNvSpPr/>
          <p:nvPr/>
        </p:nvSpPr>
        <p:spPr>
          <a:xfrm>
            <a:off x="6248520" y="1523880"/>
            <a:ext cx="761760" cy="39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右箭头 11279"/>
          <p:cNvSpPr/>
          <p:nvPr/>
        </p:nvSpPr>
        <p:spPr>
          <a:xfrm>
            <a:off x="7010280" y="2971800"/>
            <a:ext cx="60984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右箭头 11280"/>
          <p:cNvSpPr/>
          <p:nvPr/>
        </p:nvSpPr>
        <p:spPr>
          <a:xfrm>
            <a:off x="5486400" y="2895480"/>
            <a:ext cx="6094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11281"/>
          <p:cNvSpPr/>
          <p:nvPr/>
        </p:nvSpPr>
        <p:spPr>
          <a:xfrm>
            <a:off x="271656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读课文，随文识字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11282"/>
          <p:cNvSpPr/>
          <p:nvPr/>
        </p:nvSpPr>
        <p:spPr>
          <a:xfrm>
            <a:off x="5764680" y="15238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字指导，识写精细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11283"/>
          <p:cNvSpPr/>
          <p:nvPr/>
        </p:nvSpPr>
        <p:spPr>
          <a:xfrm>
            <a:off x="4240800" y="152388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检测反馈，延伸课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2289" descr="006011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矩形 12290"/>
          <p:cNvSpPr/>
          <p:nvPr/>
        </p:nvSpPr>
        <p:spPr>
          <a:xfrm>
            <a:off x="2905560" y="28944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（一）猜谜激趣，导入课题　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0" name="图片 12291" descr="小学语文(记叙文）01"/>
          <p:cNvPicPr/>
          <p:nvPr/>
        </p:nvPicPr>
        <p:blipFill>
          <a:blip r:embed="rId2"/>
          <a:stretch/>
        </p:blipFill>
        <p:spPr>
          <a:xfrm>
            <a:off x="250920" y="1251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2292"/>
          <p:cNvSpPr/>
          <p:nvPr/>
        </p:nvSpPr>
        <p:spPr>
          <a:xfrm>
            <a:off x="1763640" y="184464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猜一猜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2294"/>
          <p:cNvSpPr/>
          <p:nvPr/>
        </p:nvSpPr>
        <p:spPr>
          <a:xfrm>
            <a:off x="5651640" y="59500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66ff"/>
                </a:solidFill>
                <a:uFillTx/>
                <a:latin typeface="楷体_GB2312"/>
                <a:ea typeface="楷体_GB2312"/>
              </a:rPr>
              <a:t>谜底：</a:t>
            </a:r>
            <a:r>
              <a:rPr b="0" i="1" lang="zh-CN" sz="3600" spc="-1" strike="noStrike" u="sng">
                <a:solidFill>
                  <a:srgbClr val="ff66ff"/>
                </a:solidFill>
                <a:uFillTx/>
                <a:latin typeface="楷体_GB2312"/>
                <a:ea typeface="楷体_GB2312"/>
              </a:rPr>
              <a:t>青蛙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6800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绿衣小英雄，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田里来捉虫。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水陆都是家，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唱歌呱呱呱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万润仪器贸易公司</cp:lastModifiedBy>
  <dcterms:modified xsi:type="dcterms:W3CDTF">2020-08-24T01:55:45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